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C3B2-EBD5-45F2-9FBB-ECF8361B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0D2-A9BD-4572-80AB-EE8868DF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465-281A-4718-BAA5-0FF6687E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1A6-92BB-4EC2-94B8-F5339409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48CC-3362-44F7-9A60-70CCDBEB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232-276F-4127-98AA-83736D3B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7324-5EB9-4EFA-BC80-8F50DF52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2809-A8CD-452F-812B-6B7C06C8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D2B8-40D8-414B-9A09-3BD3FA63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5B3E-9533-441A-A2A6-46DFFC26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A507-8472-4371-8736-00430A61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E661-F860-48FB-A416-40FE2016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ABD3-F7F1-47BC-9EBF-B85D6CBA0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829720" cy="4479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609480"/>
            <a:ext cx="5934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06 Camcorder Lineup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7:52:36Z</dcterms:created>
  <dc:creator>reyescs</dc:creator>
  <dc:description/>
  <dc:language>en-US</dc:language>
  <cp:lastModifiedBy>Administrator</cp:lastModifiedBy>
  <dcterms:modified xsi:type="dcterms:W3CDTF">2006-02-08T14:46:25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3133523</vt:r8>
  </property>
  <property fmtid="{D5CDD505-2E9C-101B-9397-08002B2CF9AE}" pid="3" name="_AuthorEmail">
    <vt:lpwstr>Carlos.Reyes@us-ti-xims-1.am.sony.com</vt:lpwstr>
  </property>
  <property fmtid="{D5CDD505-2E9C-101B-9397-08002B2CF9AE}" pid="4" name="_AuthorEmailDisplayName">
    <vt:lpwstr>Reyes, Carlos S</vt:lpwstr>
  </property>
  <property fmtid="{D5CDD505-2E9C-101B-9397-08002B2CF9AE}" pid="5" name="_EmailSubject">
    <vt:lpwstr>DCR-DVD805 &amp; 905</vt:lpwstr>
  </property>
  <property fmtid="{D5CDD505-2E9C-101B-9397-08002B2CF9AE}" pid="6" name="_ReviewingToolsShownOnce">
    <vt:lpwstr/>
  </property>
</Properties>
</file>